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3C0-FF40-4E14-A752-CEAE9CFF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97B-844A-401F-A5A1-13D7222A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05DD-164C-4A8A-9818-9E3F116C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6AF-91DD-4EA5-AD57-A19EDDD1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FCB-7873-4749-8B32-AB6FCE0E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910-AEA0-493E-BDE2-476EDB06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1E5-8FEA-4371-BB2A-5DDF88EE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DE5-1CA6-4FE5-AC8D-EFF0C10E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090-E69A-4136-975D-6C866F2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5609-B320-4A81-A925-99DDAE36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14A-DC3C-467C-AFE7-38BEEFA9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352-65DC-4EDA-9E1D-08FDB011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4CC2-8611-480D-A36E-C6DAD13DE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1052640"/>
            <a:ext cx="6840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DAL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UXILIARIES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2087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Son verbos especiales. No se pueden conjugar en todos los tiempos y tampoco tienen infin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La tercera persona del singular del presente no lleva "s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W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leep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on th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typ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a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- Van siempre seguidos de infinitivo sin "to"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She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be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is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They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must clean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their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You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can stay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49840" y="29520"/>
            <a:ext cx="128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907920"/>
          <a:ext cx="8564400" cy="1080720"/>
        </p:xfrm>
        <a:graphic>
          <a:graphicData uri="http://schemas.openxmlformats.org/drawingml/2006/table">
            <a:tbl>
              <a:tblPr/>
              <a:tblGrid>
                <a:gridCol w="2376360"/>
                <a:gridCol w="3024000"/>
                <a:gridCol w="316404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not / can’t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+ sujeto + infinitivo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50920" y="2059920"/>
            <a:ext cx="82803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can                   -- No, I ca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si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’t go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you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puedo ir conti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bilid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swim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Sé na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mi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come i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?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¿Puedo entrar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35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08360" y="125280"/>
            <a:ext cx="162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87280" y="907920"/>
          <a:ext cx="8856720" cy="731880"/>
        </p:xfrm>
        <a:graphic>
          <a:graphicData uri="http://schemas.openxmlformats.org/drawingml/2006/table">
            <a:tbl>
              <a:tblPr/>
              <a:tblGrid>
                <a:gridCol w="2068560"/>
                <a:gridCol w="3448080"/>
                <a:gridCol w="334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</a:t>
                      </a: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 not / mustn’t + infi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st + sujeto + infinitiv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0" y="1969200"/>
            <a:ext cx="88930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 go      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mustn’t go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Must 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PUEST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 Yes, I must                   -- No, I must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I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 study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Debo estudiar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-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 negativ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expresa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hibició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You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ustn't open</a:t>
            </a: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the wind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(No 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	</a:t>
            </a:r>
            <a:r>
              <a:rPr b="0" i="1" lang="en-GB" sz="3200" spc="-1" strike="noStrike">
                <a:solidFill>
                  <a:srgbClr val="333300"/>
                </a:solidFill>
                <a:latin typeface="Arial"/>
                <a:ea typeface="Times New Roman"/>
              </a:rPr>
              <a:t>debes/puedes abrir la vent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91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iII in the blanks with CAN / CAN’T / MUST / MUSTN’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Britain, you _________ drive on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We ___________ buy some food. We've got nothing for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. My mother says I_________ go out tonight. I _________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 This isn’t a secret. You _______ tell every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64000" y="404640"/>
            <a:ext cx="2076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ac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87308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In Britain,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ive on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W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y some food. We've got nothing for di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4. My mother says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AN’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 out tonight. I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U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This isn’t a secret. You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l every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19640" y="54936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SW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8T13:49:55Z</dcterms:created>
  <dc:creator>rmi</dc:creator>
  <dc:description/>
  <dc:language>en-US</dc:language>
  <cp:lastModifiedBy>rmi</cp:lastModifiedBy>
  <dcterms:modified xsi:type="dcterms:W3CDTF">2009-04-19T12:20:13Z</dcterms:modified>
  <cp:revision>5</cp:revision>
  <dc:subject/>
  <dc:title>Diapositiva 1</dc:title>
</cp:coreProperties>
</file>